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0731-9C0C-4E2D-A01C-F479F09A2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54CF-04D9-401E-BA7F-9F2B32EB8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4C81-BC31-4E0A-BCB7-3DCD9F6F4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9212-EA1E-4A52-8016-AF1F3D398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A9AF-FEA9-4C9A-AE3F-F4BD1FE53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DADD-4CA5-440B-A721-5510BBE97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58CB-C4DD-4F39-B8F1-BEC70D874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F39E-D9B0-4772-B2EA-C82A29333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3309-DA7C-44AE-B209-CE00E659D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70E0-B3C0-4C23-889E-7125BE563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CF43-C1C0-4BB0-90B7-6707EE18F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7DF1-FCEC-4D13-8685-50F5F425B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d04a6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3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d04a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d04a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312372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FA03A7D-4327-4C66-8351-7AB9734A6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/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87005" t="8165" r="373" b="84672"/>
          <a:stretch/>
        </p:blipFill>
        <p:spPr>
          <a:xfrm>
            <a:off x="8120160" y="6407280"/>
            <a:ext cx="961920" cy="40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d04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87005" t="8165" r="373" b="84672"/>
          <a:stretch/>
        </p:blipFill>
        <p:spPr>
          <a:xfrm>
            <a:off x="8120160" y="6407280"/>
            <a:ext cx="961920" cy="409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4a60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Oracle Academy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40640" y="4952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Thir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7 – Lesson 2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360" y="1905120"/>
            <a:ext cx="816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ul obtinut anterior este deja in forma normala 3. Dar daca dorim sa adaugam informatii suplimentare despre profesor: adresa, numar de telefon, email etc. obtinem urmatorul ERD care nu este in forma normala 3, noile informatii depinzand doar de atributul teacher id care nu este UID-ul entitatii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33640" y="3124080"/>
          <a:ext cx="467208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3124080"/>
                    <a:ext cx="4672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0A65-F001-417F-B8F4-4012F83108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Thir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7 – Lesson 2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360" y="190512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a: Introducem o noua entitate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0" y="2590920"/>
          <a:ext cx="4800600" cy="31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1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1F9E-275C-4EE0-A35C-96262913CA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Thir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7 – Lesson 2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360" y="190512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obtinut o relatie menay-to-many care trebuie rezolv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454640" y="1905120"/>
          <a:ext cx="4079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4640" y="1905120"/>
                    <a:ext cx="4079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DC1F-3AE7-4A97-A171-8DAC40B199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d0505"/>
                </a:solidFill>
                <a:latin typeface="Arial Black"/>
              </a:rPr>
              <a:t>Normalization Rules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 Form R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440" y="2666880"/>
            <a:ext cx="808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Normal For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attributes are single valu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Normal Form (2NF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ttribute must be dependent 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’s entire unique identif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Normal Form (3NF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on-UID attribute can b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another non-UID at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590920"/>
            <a:ext cx="7238880" cy="0"/>
          </a:xfrm>
          <a:prstGeom prst="line">
            <a:avLst/>
          </a:prstGeom>
          <a:ln w="12600">
            <a:solidFill>
              <a:srgbClr val="cd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77ED-07BD-49AA-875D-796C4ADED9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First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5 – Lesson 4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multivalued attributes and no repeating group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attribute has a single value for each instance of the enti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the attribute has multiple values, create an additional entity and relate it to the original entity with a m:1 relation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01CC-41A8-406D-A2F0-0BA9B09DF6B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First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5 – Lesson 4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360" y="3809880"/>
            <a:ext cx="82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e se intampla daca se schimba regula facultatii si studentii p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a oricate note la un cur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e se intampla daca un student sau un profesor isi schim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le sau un student isi schimba adresa, trebuie sa modific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ste informatii in toate inregistrarile din BD unde ac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e a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9051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- Deobicei, un student are mai multe note la acelasi 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477120" y="1828800"/>
          <a:ext cx="198108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828800"/>
                    <a:ext cx="198108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57200" y="25909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nta 1: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ocuim atributul grade cu atribute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poteza ca nu va exista nici un curs la care studentii primesc mai mult de 2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4437-3660-4F71-BEFE-184127C759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First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5 – Lesson 4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057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m o noua entitate STUDENT si in care vom memora datele despre studenti iar in entitatea GRADE vom memora doar no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28800" y="3276720"/>
          <a:ext cx="527040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76720"/>
                    <a:ext cx="5270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06D7-5107-419E-8326-F9580F64A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First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5 – Lesson 4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0574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D-ul unei note fiind compus din id-ul cursului si id-ul studentului inseamna ca aceasta combinatie trebuie sa fie unica. Deci nu avem voie sa avem doua inregistrari cu aceeasi pereche (course_id, student_id) adica un student poate avea o singura nota la o anumita materie… Dar daca instroducem in UID si data in care a fost data nota respectiva problema este rezolvata: un student nu poate primi 2 note la aceeasi materie in aceeasi zi (situatie destul de rezonabila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0" y="4495680"/>
          <a:ext cx="51814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495680"/>
                    <a:ext cx="51814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E46F-A627-4CCD-8D96-540C5EF375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on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6 – Lesson 5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43653" t="20759" r="2593" b="13211"/>
          <a:stretch/>
        </p:blipFill>
        <p:spPr>
          <a:xfrm>
            <a:off x="5257800" y="2286000"/>
            <a:ext cx="3276720" cy="301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2133720"/>
            <a:ext cx="43434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Normal Form requires that any non-UID attribute be dependent on the entire UI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there are attributes that do not depend on the entire UID, those attributes should be moved to a new enti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93C3-7F01-41C5-A5B3-5D78FB673A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on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6 – Lesson 5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81080" y="2133720"/>
          <a:ext cx="5181840" cy="13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5181840" cy="13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65040" y="3897360"/>
            <a:ext cx="82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entar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D-ul entitati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SE ID + STUDENT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S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u depinde decat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SE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u si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C81B-619A-4078-9D6A-18C0C698FC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on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6 – Lesson 5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7120" y="2120760"/>
            <a:ext cx="528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luti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am inca o entitat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76520" y="3048120"/>
          <a:ext cx="518148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18148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BAED-F974-4BA4-A2CA-4D13EB3236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Thir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7 – Lesson 2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1360" y="2120760"/>
            <a:ext cx="809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ule of Third Normal Form states that no non-UID attribute can be dependent on another non-UID attribu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D03B-4005-4D23-A7A0-16699F225A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7:10:22Z</dcterms:created>
  <dc:creator>carmen</dc:creator>
  <dc:description/>
  <dc:language>en-US</dc:language>
  <cp:lastModifiedBy>kome</cp:lastModifiedBy>
  <dcterms:modified xsi:type="dcterms:W3CDTF">2007-09-18T17:38:50Z</dcterms:modified>
  <cp:revision>30</cp:revision>
  <dc:subject/>
  <dc:title>Oracle Academy</dc:title>
</cp:coreProperties>
</file>